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B01E-BD68-4E0F-95D0-8D8C9D8B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129A-7146-4B41-B85F-14A2AA9A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D3C6-8FAD-452B-8FEA-987A572C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C546-0BFE-4C72-9F40-22FAAD80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CE5E-C070-402C-A6E4-6262C0A2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45A4-338B-4062-B9D7-6EBF4628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7038-BDC9-444A-A88D-DAD7A2E1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FADA-FBDE-4EBF-A338-19DA0A01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E4C1-2DE2-4F86-9336-95F8B9DA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3169-409D-404F-A4BE-44E04962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FED2-C631-4201-9FFC-2984752B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6DBB-2849-401F-A9A5-F34A130A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7523-34B9-44B8-B2BD-59D2CEC7D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72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Pristina"/>
              </a:rPr>
              <a:t>This Is Just To Say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Keith &amp; Rich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Pristina"/>
              </a:rPr>
              <a:t>I have hamsters in my room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Pristina"/>
              </a:rPr>
              <a:t>They are brown and whit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Pristina"/>
              </a:rPr>
              <a:t>They are in a hamster whee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76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Pristina"/>
              </a:rPr>
              <a:t>And which they exercise too much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Pristina"/>
              </a:rPr>
              <a:t>You probably scared the hamster out of his pants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80880" y="35053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Pristina"/>
              </a:rPr>
              <a:t>Forgive me;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Pristina"/>
              </a:rPr>
              <a:t>they have escaped and are fugitiv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Pristina"/>
              </a:rPr>
              <a:t>Now I must find them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ristina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kagami, k., and Stinging  Eyes. "Welcome to Flickr - Photo Sharing."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elcome to Flickr - Photo Sha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16 Apr. 2009 &lt;http://www.flickr.com&gt;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sselring, Kyle . "Welcome to Flickr - Photo Sharing."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elcome to Flickr - Photo Sha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16 Apr. 2009 &lt;http://www.flickr.com&gt;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3:16:33Z</dcterms:created>
  <dc:creator>Admin</dc:creator>
  <dc:description/>
  <dc:language>en-US</dc:language>
  <cp:lastModifiedBy>cyndi.vander_ven</cp:lastModifiedBy>
  <dcterms:modified xsi:type="dcterms:W3CDTF">2009-04-27T01:58:13Z</dcterms:modified>
  <cp:revision>10</cp:revision>
  <dc:subject/>
  <dc:title>This Is Just To Say</dc:title>
</cp:coreProperties>
</file>